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A041-4004-412E-8748-ECE77BA8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1DB-F1DA-44E6-B756-2570A958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7372-4C8C-4F46-9966-3CF52B7F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471-97E2-4C26-89F6-E5DE2C81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B49-8206-403C-9B25-5DEC223E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EA3-7E44-4A0F-BDA1-E051953B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AD6-EFFD-4F25-84AE-3049C0F1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70A-2EA0-4DCF-BF51-BF6D9C0A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273-538B-4A8E-9E95-D05BEA04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355-1FEE-45D8-918C-A8E5E095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1AC-F686-40CC-9A43-925A52D3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43B-A00C-422D-AB1D-3DF1047B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D82B-E25D-440D-BECA-FD2CAC1CC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, footnotes, and endno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8999" t="40667" r="49001" b="35337"/>
          <a:stretch/>
        </p:blipFill>
        <p:spPr>
          <a:xfrm>
            <a:off x="533520" y="2438280"/>
            <a:ext cx="792468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4:56:20Z</dcterms:created>
  <dc:creator>sdawson</dc:creator>
  <dc:description/>
  <dc:language>en-US</dc:language>
  <cp:lastModifiedBy>sdawson</cp:lastModifiedBy>
  <dcterms:modified xsi:type="dcterms:W3CDTF">2011-12-19T14:56:33Z</dcterms:modified>
  <cp:revision>1</cp:revision>
  <dc:subject/>
  <dc:title>References, footnotes, and endnotes </dc:title>
</cp:coreProperties>
</file>